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4.wmf" ContentType="image/x-wmf"/>
  <Override PartName="/ppt/media/image2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A564-2FE9-43B1-8DA0-76CA51B70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831A-EFCA-4227-907B-413B5B426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548-18CC-4F67-9BAE-92FC0D8F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F3E-E643-4BA8-874E-E70A746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112-86F3-4039-9543-928E17DF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824-4EF7-49D1-85B3-70AE946F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45F-66C2-4ADF-B9AB-0A327BAF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8DF0-574A-4320-AF1D-DD9B76BB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D05B-EA08-4DE0-828F-7F2793A6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2AC7-CB3C-414D-A41D-7271607C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034D-1336-4B29-9D57-8D5EACA9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1EA2-1387-4A5E-B6CB-0F10E358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B153-19CD-48FD-9E83-1485959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1BE-2A66-4FF8-A5A5-019A8FE4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88E4-AF64-47CC-9A8D-3EA9C739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CB7C-2B7B-4BF8-B44A-889DEE8B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277A-7DD5-4468-910E-2E4CA15B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4E26-27C3-4C30-96FC-D346C399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8EF1-FAF7-417A-996C-EA4AAC3A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0F6C-5AB3-434C-8FC5-6B87F853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975B-BA44-472E-A6A6-8F4C9F2F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EA15-8011-4F56-8B68-D77DDF0C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9450-DBF1-410B-8B7C-C467F73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EC3A-5FDF-41C0-A61B-9BBCBD50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3AA-FA3B-4EA8-8A2D-16B0EF4B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45FD-6BD7-4E19-8DDA-3883D6D5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CCAE-2498-4C69-8EE6-AF4C0D1E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1B50-ED9B-49B3-9592-D627F10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2444-8658-40C4-A3A1-1A37A2C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2E28-7CDB-4B2E-848D-F289CEF3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3C62-A6E3-45E3-A1A3-E112DFA8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2AB3-C955-4D30-B59A-2EFF4207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E04E-5B91-487C-9FFF-48B9A30A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BD713-97A0-4D5A-9C48-5AC1E2AD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EF372-3989-49D4-AD1F-A3811FA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2D2-FBE3-41E8-8E0C-B18E89AF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A549-7CB6-42A0-AB05-6DF55156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FAC4-AF30-4DAA-B457-63DA2C01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D302-BD21-4D9D-AE3E-23FCCD6B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C77C-6B82-4357-B3EE-92BA783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AA993-4A36-4C22-B10A-3D19D13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59C1A-979C-4F73-B4CA-308028F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B898-A02C-4210-B437-8923E7B3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E38F-6137-4082-B645-603750D3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4C90-06F6-4214-9D60-985C0261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9F89-10BB-4247-B05E-79C9F739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11A-88F8-4A3C-81FF-343A1B65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86B8-7A21-4BC5-A997-90687BF4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FF42B-3ADA-4570-BD1D-77596C5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B847-C641-4A8A-8F89-126E6D2D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FD30-F007-4C7F-AE7C-BB0B488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FD33-EEA3-4C60-AEA1-16D1EC6F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1045C-23ED-4123-B78E-A0B75D3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AF57-3756-4A3F-9BDA-B99F939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CE685-DBF6-4939-BCAD-56AD0814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AD2F-A931-47A0-AE15-6AC66A7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C018-3AC0-4394-82E0-AE0CD166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1F0-F7D4-4CE7-BB70-02C4612D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A9AB-34C3-4330-8D11-5DBA8736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DB22-E866-4737-AB4F-F5FB50E9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19906-F195-497C-A8A1-589B4EDB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3BAE-2197-49E7-8DF0-3DC4C820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3DDA-602B-4014-B8C2-06FE5E3B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44006-B0D2-493E-B607-681E238D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D1CB5-7A65-4704-9CB2-57912F54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ACD8-576A-4263-81F6-B043A1A4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CB87-D1B0-4973-A78E-6BF76302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339C1-BAE1-45C8-9DCB-72E3EC7E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067-5361-49F7-A49E-E5216ABB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58BEC-36F3-4633-A14C-CE1DBFF5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225B9-6593-429C-9DDB-768195BA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C65BC-90C8-40FB-820F-F2D5B788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BC3C9-595A-4257-918F-BCBCE3E7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B394-BBC7-4137-966D-1D2F9C81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5E2BD-B5CF-47F7-90F2-4DD4CC3F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08BA7-20C2-4A0A-AB88-E4D4BE55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D2831-846C-4D09-8F80-046A0DAC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617D3-5E7B-41E8-A7FC-DB42D1A4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359B-B692-4D8E-A9F1-8026EF15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D2F-230B-4BE4-9A1D-3B48319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3DE84-1480-4347-9709-80268284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BFA9A-1C34-4403-97A0-3D5B6CE3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02EDC-7665-4D42-A4CF-90913057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9CE9-EA15-436F-8FF6-27C274BD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A1163-7BB7-438B-9C97-6ECCBF10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743C5-2EDA-4F80-9D2F-FB24AC64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34928-D427-4091-8727-F641EC57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C7340-0870-4242-BE40-4ADDC3A4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4EEA-458F-4396-909E-B5F79046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F6EC2-E442-4174-BC2D-39EA299F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929-5FBB-4FF2-83F1-64FDD3D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06A0A-C7A8-47A6-BF6C-D95533A0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15229-5B83-4A76-81DD-C0B91A56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F0129-F7A8-46CF-80F0-41EEE7F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9C3DC-D233-49CF-843C-61A38E19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8AB7C-FC6D-40DB-BC18-EFF7FF95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8F28C-A2E9-4605-B51A-7085F593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16CE4-21AC-4F4E-8005-33B55955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4377-EE10-4809-AA7A-273EFFB063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9ABC-0B7D-4ADE-846B-AC4D9A262E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80F3-1AD1-4D15-BBCC-FED230B748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5E78-35F5-451D-9147-57975B065E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525B-E7C9-4CB2-B870-170B9D5521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54F4-6AA9-4AAE-8976-008FCCA280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F4FE-D440-40CC-885E-F83BDA0C83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5D9E-8F5A-4860-B53F-C31B972F4E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ea.org/" TargetMode="External"/><Relationship Id="rId2" Type="http://schemas.openxmlformats.org/officeDocument/2006/relationships/hyperlink" Target="http://www.dese.mo.gov/" TargetMode="External"/><Relationship Id="rId3" Type="http://schemas.openxmlformats.org/officeDocument/2006/relationships/hyperlink" Target="http://www.dol.gov/" TargetMode="External"/><Relationship Id="rId4" Type="http://schemas.openxmlformats.org/officeDocument/2006/relationships/hyperlink" Target="http://www.cdc.gov/" TargetMode="External"/><Relationship Id="rId5" Type="http://schemas.openxmlformats.org/officeDocument/2006/relationships/hyperlink" Target="http://www.schoolmatters.org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bd04941_"/>
          <p:cNvPicPr/>
          <p:nvPr/>
        </p:nvPicPr>
        <p:blipFill>
          <a:blip r:embed="rId1"/>
          <a:stretch/>
        </p:blipFill>
        <p:spPr>
          <a:xfrm>
            <a:off x="2514600" y="3886200"/>
            <a:ext cx="3851280" cy="235584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682560" y="884160"/>
            <a:ext cx="8272440" cy="15670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7b8a"/>
                </a:solidFill>
                <a:latin typeface="Comic Sans MS"/>
              </a:rPr>
              <a:t>Shift Happe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7b8a"/>
                </a:solidFill>
                <a:latin typeface="Comic Sans MS"/>
              </a:rPr>
              <a:t>So Get into Gear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828440"/>
            <a:ext cx="5410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ocietal changes drive curricul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abor Market Data shows career dema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MCj02379820000[1]"/>
          <p:cNvPicPr/>
          <p:nvPr/>
        </p:nvPicPr>
        <p:blipFill>
          <a:blip r:embed="rId2"/>
          <a:stretch/>
        </p:blipFill>
        <p:spPr>
          <a:xfrm>
            <a:off x="4767120" y="3124080"/>
            <a:ext cx="35308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etiring workforce and serious depletion of skill/talent poo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ack of appropriate/adequate skill sets for people entering work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ow do we address the ga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ech Pre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rticulation agreem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chool to wo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mbedded Cred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reer Clus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reer Pa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grams of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C:\Program Files\Microsoft Office\MEDIA\CAGCAT10\j0199755.wmf"/>
          <p:cNvPicPr/>
          <p:nvPr/>
        </p:nvPicPr>
        <p:blipFill>
          <a:blip r:embed="rId2"/>
          <a:stretch/>
        </p:blipFill>
        <p:spPr>
          <a:xfrm>
            <a:off x="6095880" y="2286000"/>
            <a:ext cx="17240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undation of a quality curriculum is the combination of rigorous academics and meaningful, career-based learning for all students.  The curriculum must be relevant to the lives of students and prepare them for current and future career opportuniti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-Install rigor, relevance, and relationships in the entire secondary curricula by incorporating career connections for greater participation in engaging learning strategi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G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ademic core standards establish rigor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-based Learn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EV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dents apply knowledge, concepts, and skills to solve real real problem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ical standards are derived from the workpla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aching to the higher order thinking skills establishes relevan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dership skill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ary to Postsecondar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ucational entity to the workplac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world instruction establishes relationship between students and teacher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3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eer Clusters framework was designed to respond to the growing demands on employers, employees and educational institutions in today’s globally competitive environ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rograms of study requires alignment and coordination among secondary education, two-year and four-year postsecondary institutions, and the local business commun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6840" y="1447560"/>
            <a:ext cx="53341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e students for careers related to Family and Consumer Scienc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lance Family and Careers with a focus on the family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ership is “helping a group, including a family group, shape a vision of its purpose and goals and encouraging other to commit and recommit to achieving that vision”.  (NASAFACS, 1998, p.19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MCj02313910000[1]"/>
          <p:cNvPicPr/>
          <p:nvPr/>
        </p:nvPicPr>
        <p:blipFill>
          <a:blip r:embed="rId2"/>
          <a:stretch/>
        </p:blipFill>
        <p:spPr>
          <a:xfrm>
            <a:off x="5486400" y="2057400"/>
            <a:ext cx="3162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50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te 1850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women for their profession as wives and mothe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estic tasks are women’s work &amp; women needed specific formal training to run their hom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working mother in 1880.jpg"/>
          <p:cNvPicPr/>
          <p:nvPr/>
        </p:nvPicPr>
        <p:blipFill>
          <a:blip r:embed="rId2"/>
          <a:stretch/>
        </p:blipFill>
        <p:spPr>
          <a:xfrm>
            <a:off x="2743200" y="2438280"/>
            <a:ext cx="22384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rly 1900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45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e lives of families &amp; communities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programs provided links to U.S. Dept. of Agricultur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Content Placeholder 6" descr="kerr_modern_homemaker_1945.jpg"/>
          <p:cNvPicPr/>
          <p:nvPr/>
        </p:nvPicPr>
        <p:blipFill>
          <a:blip r:embed="rId2"/>
          <a:stretch/>
        </p:blipFill>
        <p:spPr>
          <a:xfrm>
            <a:off x="5181480" y="1143000"/>
            <a:ext cx="29368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Placeholder 4" descr="kerr_modern_homemaker_1947.jpg"/>
          <p:cNvPicPr/>
          <p:nvPr/>
        </p:nvPicPr>
        <p:blipFill>
          <a:blip r:embed="rId1"/>
          <a:srcRect l="0" t="21468" r="0" b="21468"/>
          <a:stretch/>
        </p:blipFill>
        <p:spPr>
          <a:xfrm>
            <a:off x="838080" y="3962520"/>
            <a:ext cx="3087720" cy="2315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cial benefits centered on wise prepared mothers, responsible family member and citizens; healthy and moral household and productive and confident homemakers.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Placeholder 4" descr="homemaker_index.jpg"/>
          <p:cNvPicPr/>
          <p:nvPr/>
        </p:nvPicPr>
        <p:blipFill>
          <a:blip r:embed="rId3"/>
          <a:srcRect l="0" t="23550" r="0" b="23550"/>
          <a:stretch/>
        </p:blipFill>
        <p:spPr>
          <a:xfrm>
            <a:off x="4495680" y="1752480"/>
            <a:ext cx="43578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day’s Wor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e task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pare students for family life, work life and caree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knowledge to improve quality of lif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Content Placeholder 6" descr="Working_Mother_Small.jpg"/>
          <p:cNvPicPr/>
          <p:nvPr/>
        </p:nvPicPr>
        <p:blipFill>
          <a:blip r:embed="rId2"/>
          <a:stretch/>
        </p:blipFill>
        <p:spPr>
          <a:xfrm>
            <a:off x="5257800" y="1143000"/>
            <a:ext cx="28195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6" descr=""/>
          <p:cNvPicPr/>
          <p:nvPr/>
        </p:nvPicPr>
        <p:blipFill>
          <a:blip r:embed="rId1"/>
          <a:stretch/>
        </p:blipFill>
        <p:spPr>
          <a:xfrm>
            <a:off x="115920" y="29844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te 1900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men in the workfor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omen enter wage earning careers and men’s work extended to homemaking and parenting ro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Content Placeholder 7" descr="s-WORKING-MOTHER-large.jpg"/>
          <p:cNvPicPr/>
          <p:nvPr/>
        </p:nvPicPr>
        <p:blipFill>
          <a:blip r:embed="rId2"/>
          <a:stretch/>
        </p:blipFill>
        <p:spPr>
          <a:xfrm>
            <a:off x="4952880" y="2209680"/>
            <a:ext cx="32194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 higher order thinking skills and interpersonal  communication skills needed in family,  careers and communities  and academics and working preparatio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service learning and other extended learning  opportunities integrated  with academics beyond the classroom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Picture Placeholder 6" descr="dinner-couples.jpg"/>
          <p:cNvPicPr/>
          <p:nvPr/>
        </p:nvPicPr>
        <p:blipFill>
          <a:blip r:embed="rId2"/>
          <a:srcRect l="0" t="5069" r="0" b="5069"/>
          <a:stretch/>
        </p:blipFill>
        <p:spPr>
          <a:xfrm>
            <a:off x="4495680" y="17524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VOCATIONAL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AREER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ome Student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Few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Job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to 7 “Program Areas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Lieu of Academics School and Colle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School Focu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47960" y="1371600"/>
            <a:ext cx="40417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r All Stud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or All Care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 Clusters – 81 Pathway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gns and Supports Academic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nership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304920" y="1295280"/>
          <a:ext cx="4521240" cy="4724640"/>
        </p:xfrm>
        <a:graphic>
          <a:graphicData uri="http://schemas.openxmlformats.org/drawingml/2006/table">
            <a:tbl>
              <a:tblPr/>
              <a:tblGrid>
                <a:gridCol w="1190520"/>
                <a:gridCol w="1527120"/>
                <a:gridCol w="1803600"/>
              </a:tblGrid>
              <a:tr h="7002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 Indica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1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2004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fe Expecta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–  47.3 years ol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ww.cdc.go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- 77.8 years o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2 years ol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ww.cdc.go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School Comple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6%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– 85%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www.nea.or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– 8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www.dese.mo.gov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hers in Workfor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6% of married wo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-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 of women with children &lt;6 y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% of women with children 6-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www.dol.gov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ant 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per 1000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ww.cdc.go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- 6.79 per 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– 7.6 per 1000</a:t>
                      </a:r>
                      <a:br>
                        <a:rPr sz="1100"/>
                      </a:b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it-IT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www.cdc.gov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 Beyond High Scho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1.9% college de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 – 2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souri – 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1100" spc="-1" strike="noStrike" u="sng">
                          <a:solidFill>
                            <a:srgbClr val="ff811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www.schoolmatters.org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Rectangle 1"/>
          <p:cNvSpPr/>
          <p:nvPr/>
        </p:nvSpPr>
        <p:spPr>
          <a:xfrm>
            <a:off x="838080" y="23148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Has Changed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876920" y="1295280"/>
          <a:ext cx="3504960" cy="4768920"/>
        </p:xfrm>
        <a:graphic>
          <a:graphicData uri="http://schemas.openxmlformats.org/drawingml/2006/table">
            <a:tbl>
              <a:tblPr/>
              <a:tblGrid>
                <a:gridCol w="1623960"/>
                <a:gridCol w="1881000"/>
              </a:tblGrid>
              <a:tr h="68580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courses in public education have facilitated this chang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CUS FOR THE FU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refore we need to focus on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mily &amp; Individual Heal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s &amp; Nutr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Develop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Edu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 Develop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Fitn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er &amp; Tech Ed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e Arts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ding students towards a personal plan of stud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ership Skill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priate extra curricular activ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er &amp; Tech Ed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ancing Work &amp; Fami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Financ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Management (time, household, family, etc...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ersonal Relationship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 Developme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 Developme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s &amp; Nutr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man Develop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natal Ca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ersonal Relationship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46440" rIns="46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er &amp; Tech Ed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e Arts Cour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440" rIns="4644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ding students towards a personal plan of stud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ership Skill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priate extra curricular activ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440" marR="46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05:04Z</dcterms:created>
  <dc:creator>Owner</dc:creator>
  <dc:description/>
  <dc:language>en-US</dc:language>
  <cp:lastModifiedBy>Owner</cp:lastModifiedBy>
  <dcterms:modified xsi:type="dcterms:W3CDTF">2008-04-15T19:04:20Z</dcterms:modified>
  <cp:revision>35</cp:revision>
  <dc:subject/>
  <dc:title>Slide 1</dc:title>
</cp:coreProperties>
</file>